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BED-E2D3-46F4-B3BA-740C4484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989-1FDB-4B24-9A14-67AC2343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C52-FA2A-4ED6-AE1B-9D54C9F5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8DF-86F5-41AC-8B62-0ADEFEA0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055-6B26-46A8-9DB7-7290BEF7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A4F-6099-477C-A8BD-05B8906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2F3-F537-4C76-AE41-90DEC5BA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5F0-5C7F-4FA9-B70F-6CAA8D5C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C59-CE49-4C91-8410-4F9FA651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440-63E9-4DD1-BFA6-14581A6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467-44C6-49C8-A0A7-94BE1A4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858-A97D-4175-BB3D-4A96BF3C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74FB-1BA5-4123-AA9D-18F247731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6 nh(601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9 de en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la Prueba del Repaso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ermano de mi m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os padres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ijo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her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Quiz 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R17-R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/ 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_________ en el cafe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edes __________ un libreto original. (escrib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_________ un perrito. (te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_________ Jose en la papeleria? (v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_ poca leche. (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s _________ muy poco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 Helen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onde vive su familia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ella una casa privada o un apartamento?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una casa priv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una mascota?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19810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036880"/>
            <a:ext cx="4038480" cy="293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040" y="2057400"/>
            <a:ext cx="29858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sombr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4433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24386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505320" cy="254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43640" y="22096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 aho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96252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361960" cy="177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gorra az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7:41:09Z</dcterms:created>
  <dc:creator>Helen Zumaeta</dc:creator>
  <dc:description/>
  <dc:language>en-US</dc:language>
  <cp:lastModifiedBy>Helen Zumaeta</cp:lastModifiedBy>
  <dcterms:modified xsi:type="dcterms:W3CDTF">2013-01-10T03:29:29Z</dcterms:modified>
  <cp:revision>15</cp:revision>
  <dc:subject/>
  <dc:title>Slide 1</dc:title>
</cp:coreProperties>
</file>